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C52F8-0B7F-41DD-91AB-18A22D6F6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6876F-3D7A-4C18-AE44-24E6891AF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A3429-9D88-49E4-AF94-334518955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28C90-6F98-4902-904D-09EABC11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7DD6F-462F-4F25-BDF8-EDCCE138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B9BD-A714-4FAC-BB40-E7DC9A06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FBEC-2D31-43D6-ACB2-B5B542C62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DC0BB-C7DA-4DCD-904E-9DE22B220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98966-5BDC-48AE-BB52-7F3060F1E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703C-CFED-498A-84AD-18ACF46B2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89AA-ADAB-4159-AE35-4EDB3B19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8002-F1FB-4AE5-AB80-FCF6B1AC2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0A92-0E37-43D3-8F5F-36A4A3F3331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81000"/>
            <a:ext cx="77724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Human Uses And Problems Of Fold Mountain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 Of Living In These Area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climate</a:t>
            </a:r>
            <a:r>
              <a:rPr b="0" lang="en-US" sz="2800" spc="-1" strike="noStrike">
                <a:solidFill>
                  <a:srgbClr val="000000"/>
                </a:solidFill>
                <a:latin typeface="Calibri"/>
              </a:rPr>
              <a:t> is very cold and wet, meaning that most industrial and agricultural activity is difficul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farmers they have a very short growing season, and it is difficult to use machinery on the steep slo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valanches</a:t>
            </a:r>
            <a:r>
              <a:rPr b="0" lang="en-US" sz="2800" spc="-1" strike="noStrike">
                <a:solidFill>
                  <a:srgbClr val="000000"/>
                </a:solidFill>
                <a:latin typeface="Calibri"/>
              </a:rPr>
              <a:t> are a constant threat, as was seen to devastating effect in Ranrahirca, Peru, in 196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ge amounts of money are spent each year to try and combat the avalanche threat, especially with the large amount of tourists using the mounta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arming</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rming</a:t>
            </a:r>
            <a:r>
              <a:rPr b="0" lang="en-US" sz="3200" spc="-1" strike="noStrike">
                <a:solidFill>
                  <a:srgbClr val="000000"/>
                </a:solidFill>
                <a:latin typeface="Calibri"/>
              </a:rPr>
              <a:t> is a primary activity in all of the fold mountain range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ly, due to the height and steepness of many of the slopes, this is restricted to cattle and sheep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the foothills of the Himalayas the Nepalese people use terraces in the mountainside to help them grow crops, and some southern facing Alpine slopes are used for vines and fru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arming</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lps a system called </a:t>
            </a:r>
            <a:r>
              <a:rPr b="1" lang="en-US" sz="3200" spc="-1" strike="noStrike">
                <a:solidFill>
                  <a:srgbClr val="000000"/>
                </a:solidFill>
                <a:latin typeface="Calibri"/>
              </a:rPr>
              <a:t>transhumance</a:t>
            </a:r>
            <a:r>
              <a:rPr b="0" lang="en-US" sz="3200" spc="-1" strike="noStrike">
                <a:solidFill>
                  <a:srgbClr val="000000"/>
                </a:solidFill>
                <a:latin typeface="Calibri"/>
              </a:rPr>
              <a:t> was u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basically is the seasonal movement of grazing animals between the high ground in the warmer summer months and the valley floors in the colder autumn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adays transhumance is a little outdated as modern technology has meant that farmers can stay in one place all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urism</a:t>
            </a:r>
            <a:r>
              <a:rPr b="0" lang="en-US" sz="3200" spc="-1" strike="noStrike">
                <a:solidFill>
                  <a:srgbClr val="000000"/>
                </a:solidFill>
                <a:latin typeface="Calibri"/>
              </a:rPr>
              <a:t> is another major use of the Fold Mountain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y are in more economically developed countries, the Alps and the Rockies are perhaps the best examples of the impact of tour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t is an increasing industry in both the Andes and the Himalayas, as people look for less crowded places to go 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in tourist attraction in the Rockies and the Alps is ski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ndreds of thousands of people ski each year and this has brought great changes and problems to the main are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crease in tourism has meant much-improved infrastructure, a huge increase in hotels and restaurants and the development of entire resor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rought a large amount of much needed money into these areas and allowed local people to diversify from farming into many other jo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ourism</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d Mountains have a lot of other things to attract visi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nclude hill walking, the attractive scenery, river rafting, and climb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se have contributed to areas in the Alps and the Rockies becoming all year round holiday res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estry</a:t>
            </a:r>
            <a:r>
              <a:rPr b="0" lang="en-US" sz="3200" spc="-1" strike="noStrike">
                <a:solidFill>
                  <a:srgbClr val="000000"/>
                </a:solidFill>
                <a:latin typeface="Calibri"/>
              </a:rPr>
              <a:t> is another big business in these mountainous reg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cultivated coniferous forests can be seen in the Alps, where the trees have been deliberately planted as cr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the foothills of the Himalayas large-scale deforestation is also taking place, with logging companies cutting down vast tracts of the deciduous rainforest t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of the Fold Mountain regions of the world are prime spots for the generation of </a:t>
            </a:r>
            <a:r>
              <a:rPr b="1" lang="en-US" sz="2800" spc="-1" strike="noStrike">
                <a:solidFill>
                  <a:srgbClr val="000000"/>
                </a:solidFill>
                <a:latin typeface="Calibri"/>
              </a:rPr>
              <a:t>hydroelectric power (HEP).</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a plentiful supply of water; deep, narrow valleys with quick flowing rivers, and they are sparsely populated, meaning that few people are displaced when a reservoir is cre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HEP</a:t>
            </a:r>
            <a:r>
              <a:rPr b="0" lang="en-US" sz="2800" spc="-1" strike="noStrike">
                <a:solidFill>
                  <a:srgbClr val="000000"/>
                </a:solidFill>
                <a:latin typeface="Calibri"/>
              </a:rPr>
              <a:t> is then used either for electricity in cities some distance away, or as a power source for local </a:t>
            </a:r>
            <a:r>
              <a:rPr b="1" lang="en-US" sz="2800" spc="-1" strike="noStrike">
                <a:solidFill>
                  <a:srgbClr val="000000"/>
                </a:solidFill>
                <a:latin typeface="Calibri"/>
              </a:rPr>
              <a:t>industries,</a:t>
            </a:r>
            <a:r>
              <a:rPr b="0" lang="en-US" sz="2800" spc="-1" strike="noStrike">
                <a:solidFill>
                  <a:srgbClr val="000000"/>
                </a:solidFill>
                <a:latin typeface="Calibri"/>
              </a:rPr>
              <a:t> such as saw and paper m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 Of Living In These Area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untainous regions</a:t>
            </a:r>
            <a:r>
              <a:rPr b="0" lang="en-US" sz="3200" spc="-1" strike="noStrike">
                <a:solidFill>
                  <a:srgbClr val="000000"/>
                </a:solidFill>
                <a:latin typeface="Calibri"/>
              </a:rPr>
              <a:t> are particularly difficult to build in due to the steep sided valleys and cold clima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s and other communications links have to snake their way up wherever they can, and often these roads are not big enough to adequately service a larg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4:43:17Z</dcterms:created>
  <dc:creator>Dell_02</dc:creator>
  <dc:description/>
  <dc:language>en-US</dc:language>
  <cp:lastModifiedBy>Dell_02</cp:lastModifiedBy>
  <dcterms:modified xsi:type="dcterms:W3CDTF">2011-01-26T14:52:04Z</dcterms:modified>
  <cp:revision>1</cp:revision>
  <dc:subject/>
  <dc:title>Human Uses And Problems Of Fold Mountains</dc:title>
</cp:coreProperties>
</file>